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2B0-53ED-4F89-B108-A7B9D0A2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DB1-92EA-4970-8305-8F0371C7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8DE-7BD8-476C-8853-331D5FCE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687-F795-412A-BF04-F36DA7FA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C119-1514-41CC-B741-462078C6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9EB5-B1E1-481C-BD1C-C5215100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16DF-1A9A-4AB3-9E39-3A79EEA3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5FEA-D303-4481-B306-75D28A29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2BEA-7AFA-4DB3-94F5-20EA339E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959B-4215-433E-BAFB-96454BBF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025C-8E28-4F4D-AA12-9EE68279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4A1-C5AE-405A-A829-E2C8A917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85C4-EE3F-4B17-904A-1BD146BC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5A6A-F399-4559-9D1B-02D7D970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E271-7738-42AA-9F44-4D40C674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5B49-61EF-4B30-BEBB-AFBA8F7E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928B-8778-47BE-9DF4-2163E3E4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A02-2D2A-4076-9783-29777B25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1D2-382F-4B90-8D9A-F7151685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FA5-6B34-420D-BE11-882E9822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D79-6A6B-408E-832F-4998CDA3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EDE-B855-4261-B79F-4862C8F6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080-69DA-4EEC-8077-BDE7C077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524-B6A9-4177-956E-FD14C2F4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A4AE-5D1B-401F-9886-0BA07D2B7C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1A62-5C04-4A7F-9BEE-146DB4B7B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50920" y="1413000"/>
            <a:ext cx="82296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Проект: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Как складывалась геометр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5" descr="J0336887"/>
          <p:cNvPicPr/>
          <p:nvPr/>
        </p:nvPicPr>
        <p:blipFill>
          <a:blip r:embed="rId1"/>
          <a:stretch/>
        </p:blipFill>
        <p:spPr>
          <a:xfrm>
            <a:off x="360360" y="4280040"/>
            <a:ext cx="1584360" cy="1915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792000" y="31989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сновополагающий вопрос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 чего началась геометр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59800" y="4730760"/>
            <a:ext cx="307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ff"/>
                </a:solidFill>
                <a:latin typeface="Arial"/>
              </a:rPr>
              <a:t>Участник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ff"/>
                </a:solidFill>
                <a:latin typeface="Arial"/>
              </a:rPr>
              <a:t>Учащиеся 8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11" descr="new_pa1"/>
          <p:cNvPicPr/>
          <p:nvPr/>
        </p:nvPicPr>
        <p:blipFill>
          <a:blip r:embed="rId2"/>
          <a:stretch/>
        </p:blipFill>
        <p:spPr>
          <a:xfrm>
            <a:off x="7037280" y="412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57200" y="115920"/>
            <a:ext cx="78598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роблемные вопро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33"/>
                </a:solidFill>
                <a:latin typeface="Times New Roman"/>
              </a:rPr>
              <a:t>Основоположники геометри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33"/>
                </a:solidFill>
                <a:latin typeface="Times New Roman"/>
              </a:rPr>
              <a:t>Зачем потребовалась геометри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33"/>
                </a:solidFill>
                <a:latin typeface="Times New Roman"/>
              </a:rPr>
              <a:t>Была ли математика в древнем Восток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33"/>
                </a:solidFill>
                <a:latin typeface="Times New Roman"/>
              </a:rPr>
              <a:t>Старинные системы счета?</a:t>
            </a:r>
            <a:r>
              <a:rPr b="0" lang="ru-RU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Учебные вопро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Основные свойства простейших геометрических фигу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Площадь четырехугольн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Четырехугольники(теорема Фалес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Теорема Пифаг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История древнего мира(Египта,Востока,Рим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Системы счис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Работа в текстовом редак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9" descr="1721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29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Чертёж для доказательства №1"/>
          <p:cNvPicPr/>
          <p:nvPr/>
        </p:nvPicPr>
        <p:blipFill>
          <a:blip r:embed="rId2"/>
          <a:stretch/>
        </p:blipFill>
        <p:spPr>
          <a:xfrm>
            <a:off x="7308720" y="4797360"/>
            <a:ext cx="1428840" cy="1419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755640" y="404640"/>
            <a:ext cx="72738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нный проект несет информационно – исследовательскую функцию, т.е. сбор информации, ее изучение и систематизация, представление полученных результатов. Готовые рефераты несут информационную, познавательную функции для того, чтобы развить интерес и выработать постоянную потребность к получению зна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15" descr="J0178671"/>
          <p:cNvPicPr/>
          <p:nvPr/>
        </p:nvPicPr>
        <p:blipFill>
          <a:blip r:embed="rId1"/>
          <a:stretch/>
        </p:blipFill>
        <p:spPr>
          <a:xfrm>
            <a:off x="2987640" y="4437000"/>
            <a:ext cx="2700360" cy="2062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Дидактические цели проекта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24000" y="1268280"/>
            <a:ext cx="83628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видеть знакомое в незнаком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ширение кругоз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вить интерес к истории геометр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учить работе с большими объемами 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обретение навыков самостоятельной работы и в групп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5" descr="J0196260"/>
          <p:cNvPicPr/>
          <p:nvPr/>
        </p:nvPicPr>
        <p:blipFill>
          <a:blip r:embed="rId1"/>
          <a:stretch/>
        </p:blipFill>
        <p:spPr>
          <a:xfrm>
            <a:off x="6896160" y="0"/>
            <a:ext cx="2247840" cy="201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1963080" y="37296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Методические 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93640" y="857160"/>
            <a:ext cx="84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аучить пользоваться  справочной литературо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аучить анализировать каждый элемент полученной информ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своить компьютерный инструментарий для оформления результат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аучить синтезировать информацию( соединять элементы получен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нформации в единое целое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5" descr="J0237831"/>
          <p:cNvPicPr/>
          <p:nvPr/>
        </p:nvPicPr>
        <p:blipFill>
          <a:blip r:embed="rId1"/>
          <a:stretch/>
        </p:blipFill>
        <p:spPr>
          <a:xfrm>
            <a:off x="5651640" y="3789360"/>
            <a:ext cx="1812960" cy="187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8229600" y="3417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50920" y="1628640"/>
            <a:ext cx="803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Темы реферато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"/>
              </a:rPr>
              <a:t>«Историческая характеристика эпохи возникновения геометри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ccff"/>
                </a:solidFill>
                <a:latin typeface="Arial"/>
              </a:rPr>
              <a:t>«Ученые древности и их научные труды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ccff"/>
                </a:solidFill>
                <a:latin typeface="Arial"/>
              </a:rPr>
              <a:t>«Связь между геометрией древних веков и современной геометрией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"/>
              </a:rPr>
              <a:t>Создание презентации на основе рефер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Архимед1"/>
          <p:cNvPicPr/>
          <p:nvPr/>
        </p:nvPicPr>
        <p:blipFill>
          <a:blip r:embed="rId1"/>
          <a:stretch/>
        </p:blipFill>
        <p:spPr>
          <a:xfrm>
            <a:off x="7180200" y="0"/>
            <a:ext cx="1963800" cy="2781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0178115"/>
          <p:cNvPicPr/>
          <p:nvPr/>
        </p:nvPicPr>
        <p:blipFill>
          <a:blip r:embed="rId2"/>
          <a:stretch/>
        </p:blipFill>
        <p:spPr>
          <a:xfrm>
            <a:off x="7812000" y="4508640"/>
            <a:ext cx="1166760" cy="208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Так же несколько учеников готовят доклады на каждое занятие по следующему плану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Ко 2-му  уроку ученики готовят доклады на те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Как люди учились счит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Старинные системы сче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Зачем потребовалась геометри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Математика древнего Восто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К 3-му уроку ученики готовят доклады на те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Фале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Пифаг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Евкл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Архиме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К 4-му уроку ученики готовят доклады на те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Античная математ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Геометрия современ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5013360"/>
            <a:ext cx="3276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170360" y="37296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Литератур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826920" y="1049400"/>
            <a:ext cx="7274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нциклопедия для детей. Том 11 – математика. М.Д. Аксенова – М. «Аванта +». 2000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Путешествие в историю математики, или как учились люди считать». Педагогика-пресс, А. Свечни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ебник по геометрии 7-11 класса. Погар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100 великих ученых». А.К. Самин. «Вече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Олма - пресс Образование». М. Москва. 2003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08:31:35Z</dcterms:created>
  <dc:creator>Admin</dc:creator>
  <dc:description/>
  <dc:language>en-US</dc:language>
  <cp:lastModifiedBy>Admin</cp:lastModifiedBy>
  <dcterms:modified xsi:type="dcterms:W3CDTF">2010-05-30T10:33:05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